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RESOURCE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ALI. BLL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374B-EFB5-4780-B560-38DB27F7D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 &amp;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UTION OF SODIUM CHLORID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 a homogeneous mixture containing particles the size of a typical ion or covalent molecule. (0.1–2.0 nm in dia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: a homogeneous mixture containing particles with diameters in the range 2–5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 are mixtures with even larger particles, but they are not considered true solutions because they separate upon st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: the dissolved substance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: the major component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is saturated when no additional solute can be dissolved at a particular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persaturated solution can form when more than the equilibrium amount of solute is dissolved at an elevated temperature, and then the supersaturated solution is slowly coo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saturated solution is formed when more of the solute can dissolve in it at a particular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solute per unit solvent required to form a saturated solution is called the solute's Solu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quids are completely soluble in each other they are said to be Misc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is effected by Temperature. With increase in temperature solubility of most of the substances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gases become less soluble in water as the temperatur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GASE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OF COMMON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377-EAE2-4046-96FC-8C16544F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412-E398-4EED-A552-440776B3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568-FBA6-4291-B998-68719055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6F1-6E1F-46BB-8E8F-09A8AF92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08849-3F53-4D6F-81BB-5C6EA012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1A4CA-33E2-40EA-AA50-CBA076B4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4FB02-BD42-4662-A464-767DFD4B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2E775-629C-4FE7-9F4F-73A3B627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C2675-B731-41AE-BF2C-ABC8E915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3F247-77C8-4EC7-91BE-4745C2C3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997D4-22D9-46B9-AC1C-A2C11BD5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879-8CE0-4B10-9DC6-3C139991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DCA13-C87A-4301-8F92-3BEBDCE4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A8716-BFF8-4C24-9260-EBFD2572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8C6BB-D994-4993-BA59-8CFD9544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901F7-BAC1-43A4-8986-F288D83F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7241B-FDCF-4747-8E59-E6BEAD52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CB2-542D-4706-AEF0-A52B0682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BC0-B959-47F9-9325-614E910D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E3C-AD16-4E41-853B-81F96F05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E82-0674-43E6-8B63-031DEB9F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5B8-3A10-4AF8-9F4E-C63E977E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717-522C-4C35-9476-50B84615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FA0-3AFB-4345-8ADA-1A3879CD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2A11-4D8A-4F17-BEE5-7C78F35D5A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FC32-6A98-447E-A838-612375987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5351-AB58-4CA5-8EFD-57D12EA56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F13C-A082-492C-A66D-C0E1179BC30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OLUTIONS &amp; SOLUBILITIES</a:t>
            </a:r>
            <a:endParaRPr b="0" lang="en-US" sz="40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61189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8C9C-4605-4DC5-918E-47B6E0A65A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-1-5-"/>
          <p:cNvPicPr/>
          <p:nvPr/>
        </p:nvPicPr>
        <p:blipFill>
          <a:blip r:embed="rId1"/>
          <a:srcRect l="0" t="9828" r="0" b="0"/>
          <a:stretch/>
        </p:blipFill>
        <p:spPr>
          <a:xfrm>
            <a:off x="1600200" y="1143000"/>
            <a:ext cx="6161040" cy="5040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ISSOLUTION OF SODIUM CHLORIDE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94CD-5497-49B0-99F4-EFFA9B9CBD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ONATED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UHAMMAD 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o www.worldofteaching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9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0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30B5-5D3C-4178-BC52-723F10F6C3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TERMS 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the size of a typical ion or covalent molecule. (0.1–2.0 nm in diame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Colloid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with diameters in the range 2–500 n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uspensions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re mixtures with even larger particles, but they are not considered true solutions because they separate upon 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e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dissolved substance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vent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major component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BF6D-FC1B-47AC-81F9-B0B61FA5C8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solution i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when no additional solute can be dissolved at a particular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upersaturated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tion can form when more than the equilibrium amount of solute is dissolved at an elevated temperature, and then the supersaturated solution is slowly coo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Un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solution is formed when more of the solute can dissolve in it at a particular 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  <p:sndAc>
      <p:stSnd>
        <p:snd r:embed="rId1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32DF-A76F-46CE-A074-6010F8469A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KINDS OF SOLUTION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02" name="Picture 4" descr="table11_1"/>
          <p:cNvPicPr/>
          <p:nvPr/>
        </p:nvPicPr>
        <p:blipFill>
          <a:blip r:embed="rId1"/>
          <a:srcRect l="0" t="12549" r="0" b="0"/>
          <a:stretch/>
        </p:blipFill>
        <p:spPr>
          <a:xfrm>
            <a:off x="228600" y="1447920"/>
            <a:ext cx="891540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D538-5FF8-4EB5-8778-C754ECC85D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80880" y="304920"/>
          <a:ext cx="84582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37CF-D70E-43E1-8049-8593F79952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SOLUBILITY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e amount of solute per unit solvent required to form a saturated solution is called the solute'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olu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When two liquids are completely soluble in each other they are said to be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Miscible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bility is effected by Temperature. With increase in temperature solubility of most of the substances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Most gases become less soluble in water as the temperature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D166-4AC6-4630-AFBF-BE3A71E020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SALT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5" name="Picture 4" descr="aabjvkya"/>
          <p:cNvPicPr/>
          <p:nvPr/>
        </p:nvPicPr>
        <p:blipFill>
          <a:blip r:embed="rId1"/>
          <a:stretch/>
        </p:blipFill>
        <p:spPr>
          <a:xfrm>
            <a:off x="914400" y="1143000"/>
            <a:ext cx="7450200" cy="5079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12FC-77CD-41E1-A40C-A4FC49A5C3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GASE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9" name="Picture 4" descr="aabjvkza"/>
          <p:cNvPicPr/>
          <p:nvPr/>
        </p:nvPicPr>
        <p:blipFill>
          <a:blip r:embed="rId1"/>
          <a:stretch/>
        </p:blipFill>
        <p:spPr>
          <a:xfrm>
            <a:off x="1295280" y="1066680"/>
            <a:ext cx="678996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304920" y="556272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0A10-DC79-4BF5-957E-926F3AC27B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BILITY OF COMMON IONS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4317" r="0" b="0"/>
          <a:stretch/>
        </p:blipFill>
        <p:spPr>
          <a:xfrm>
            <a:off x="457200" y="1295280"/>
            <a:ext cx="8305920" cy="4572000"/>
          </a:xfrm>
          <a:prstGeom prst="rect">
            <a:avLst/>
          </a:prstGeom>
          <a:ln w="38160">
            <a:solidFill>
              <a:srgbClr val="ff00ff"/>
            </a:solidFill>
            <a:prstDash val="lgDashDot"/>
            <a:miter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9:07:06Z</dcterms:created>
  <dc:creator>MOHAMMAD ALI</dc:creator>
  <dc:description/>
  <dc:language>en-US</dc:language>
  <cp:lastModifiedBy>RomaK</cp:lastModifiedBy>
  <dcterms:modified xsi:type="dcterms:W3CDTF">2015-09-02T06:02:49Z</dcterms:modified>
  <cp:revision>34</cp:revision>
  <dc:subject/>
  <dc:title>SOLUTIONS &amp; SOLUBILITIES</dc:title>
</cp:coreProperties>
</file>